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3D2-F1B9-431A-9966-4943FCC9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FC3-F66A-4F65-AAB3-DC350544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CFD-B1A3-4A39-94EF-6D2454A5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2924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25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0663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2924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25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811-FF47-4456-B648-881A0A5C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9B35-3BB3-4177-8B63-5F3F74FB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1E8-6DBF-4FE3-A25A-F3DD11F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C7D8-FC3B-49DB-85B5-96C51AB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699D-266B-4476-BE94-F4D97E45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6918-5F6B-440E-9EC8-A94449CF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2168-18FD-4B0C-8636-A7CAB22F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7C19-3FC3-442B-A0CC-24B85F3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AD0-1A8A-4946-BCCB-ED0A9433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8F9-C23C-4455-B75C-658F318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35D-E446-4638-9727-17C98DA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178-A642-4D1D-B297-6BA7CE98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D7A1-A377-43BD-AE11-1D3E3F86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2924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25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3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2924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25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406B-568B-4C5F-A101-27E24FCD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6EF-F1E5-46AC-840E-AD20D37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EDA-0365-4C3E-8B15-4CE83E9F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588-7602-4505-A913-47BF559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762-CFA1-465F-B16D-69D219BD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BDB-93F9-41F2-8058-E08EF53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D43-3E8E-4028-8666-B511D56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63B-EA28-4B4A-91A1-7875164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696D-6CBD-43EB-ABB3-14C91D861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050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2051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205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205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205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205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205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205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205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205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206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206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206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206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206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206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206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206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6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06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07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07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07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07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07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07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07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07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07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07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208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208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E37E-15FE-4DA0-9A71-0E3B15859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members.aol.com/americacruising/illinois-peorialock.jpg&amp;imgrefurl=http://members.aol.com/americacruising/illinois.html&amp;h=447&amp;w=574&amp;prev=/images?q=Illinois+river&amp;svnum=10&amp;hl=en&amp;lr=&amp;ie=UTF-8&amp;oe=UTF-8&amp;sa=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cnn.com/SPECIALS/1999/panama.canal/stories/history/panama.canal.jpg&amp;imgrefurl=http://www.cnn.com/SPECIALS/1999/panama.canal/stories/history/&amp;h=270&amp;w=181&amp;prev=/images?q=canal&amp;start=80&amp;svnum=10&amp;hl=en&amp;lr=&amp;ie=UTF-8&amp;oe=UTF-8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pcug.org/user/jlacombe/pon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epa.gov/owow/wetlands/images/marsh.jpg&amp;imgrefurl=http://www.epa.gov/owow/wetlands/&amp;h=166&amp;w=180&amp;prev=/images?q=marsh&amp;svnum=10&amp;hl=en&amp;lr=&amp;ie=UTF-8&amp;oe=UTF-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ru.uea.ac.uk/cru/info/iccuk/irr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xcons.fi/kuvat/pal2_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ahis.gov.tr/dept/aqua/fishing.jpg&amp;imgrefurl=http://www.ahis.gov.tr/&amp;h=555&amp;w=369&amp;prev=/images?q=fishing&amp;start=40&amp;svnum=10&amp;hl=en&amp;lr=&amp;ie=UTF-8&amp;oe=UTF-8&amp;sa=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environmental-center.com/consulting/iatl/faucet1.jpg&amp;imgrefurl=http://www.environmental-center.com/consulting/iatl/iatl.htm&amp;h=204&amp;w=174&amp;prev=/images?q=drinking+water&amp;svnum=10&amp;hl=en&amp;lr=&amp;ie=UTF-8&amp;oe=UTF-8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monsanto.com/monsanto/images/content/our_commitments/atmosphere.jpg&amp;imgrefurl=http://www.monsanto.com/monsanto/layout/our_commitments/environment.asp&amp;h=186&amp;w=200&amp;prev=/images?q=atmosphere&amp;svnum=10&amp;hl=en&amp;lr=&amp;ie=UTF-8&amp;oe=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cgee.hamline.edu/see/questions/dp_biosphere/bios_community/bios_comm_earth.jpg&amp;imgrefurl=http://cgee.hamline.edu/see/questions/dp_biosphere/bios_community/dp_bios_comm_dex.htm&amp;h=473&amp;w=529&amp;prev=/images?q=biosphere&amp;start=280&amp;svnum=10&amp;hl=en&amp;lr=&amp;ie=UTF-8&amp;oe=UTF-8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Arial"/>
              </a:rPr>
              <a:t>Water</a:t>
            </a:r>
            <a:br>
              <a:rPr sz="6600"/>
            </a:br>
            <a:endParaRPr b="0" lang="en-US" sz="6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asic and Important Resour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alt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.5 ppt or more of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ocean and sea water is as high as 33 to 37 pp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ltwater makes up about 97 percent of the earth’s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rackish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ixture of saltwater and fresh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ckish water is found where freshwater flows into the ocean or other bodies of salt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aking Water Usabl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illa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il water, collect vapor, cool it back to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al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ly remove sa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rea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owing bodies of water that are useful resources for irrigation, factories, and local water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types of streams are rivers, creeks, brooks, and can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ed by volume and velo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ood Web in Strea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reams are freshwater and they can flow through a natural or man-made channe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22669"/>
          <a:stretch/>
        </p:blipFill>
        <p:spPr>
          <a:xfrm>
            <a:off x="1143000" y="11430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ross Section of a Stream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6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ate of flow in a stream is called a curr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081760" y="1752480"/>
            <a:ext cx="3860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iv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trea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high streamflow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illinois-peorial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124080"/>
            <a:ext cx="39621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reek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tream that is smaller than a ri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ten flow into rivers, lakes, and ocea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rook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mall stream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ten flow into creeks, rivers, lakes, and ocea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an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rtificial waterway built for transportation, to relieve flooding, or to divert the flow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pana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50532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swer the following questions.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the last time you took a drink of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you take this dr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 think the water ca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 you belong in the water 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Non-Flowing Bodie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luence the weather, climate, commerce, food supply, and recreational activities of an are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have internal movement caused by temperature changes and sali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s of non-flowing bod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s, lakes, ponds, reservoirs, sloughs, marshes, and estu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Ocean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bodies of salt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ver almost 75 percent of the surface of the ear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ak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ies of freshwater that are surrounded by la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y in size, some are natural and others are man-ma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ond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flowing bodies of water that are smaller than lak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ly manmade and used as a source of recreation or for use by livestoc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po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572000"/>
            <a:ext cx="2639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eservoir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bodies of stored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ly used to generate electric pow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lough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ck, muddy areas of shallow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arsh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as of land covered with shallow water and plants such as cattai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not contain trees and are similar in nature to slough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mars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7242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Estuari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as where freshwater streams flow into the ocean or a saltwater lak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e the sampl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one sample of water better or worse than an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would you rather drink and w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Importance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f the basic needs for lif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of wa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e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Cycle (Hydrologic Cycle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875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uous movement of water from the earth to the atmosphere and b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n provides the ener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s in four overlapping sphe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ife Process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animals are made up of 60 to 70 percent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lants are made up of 70 to 95 percent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aily Liv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erage person uses approximately 100 gallons a da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o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te remo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griculture Produc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used in agriculture production for the irrigation of crops and the watering of anima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irr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4267080"/>
            <a:ext cx="31086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mat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capable of moderating the climate in the immediate are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ting and transferring h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bodies of water can also cause storms, high winds, and hurrican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anufactu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used in the manufacturing of products such as steel, paper, and food proce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pal2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09880"/>
            <a:ext cx="20574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ransporta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serves as a mode of transportation for boats, ships, ferries, and barg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rivdock"/>
          <p:cNvPicPr/>
          <p:nvPr/>
        </p:nvPicPr>
        <p:blipFill>
          <a:blip r:embed="rId1"/>
          <a:stretch/>
        </p:blipFill>
        <p:spPr>
          <a:xfrm>
            <a:off x="3809880" y="4417920"/>
            <a:ext cx="50673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ecrea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reational activities such as swimming, boating, and fishing all take place in the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fish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3809880"/>
            <a:ext cx="2666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otable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that is safe for human use and consump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ins min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variations in the odor, taste, color, pH, alkalinity, and hardness of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auc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98280"/>
            <a:ext cx="18748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Odor and Tast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mmonly the result of the water source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etimes the addition of chemical to the water by the local water syst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 causes are pollution, organic sulfur, and microorganis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lo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red water may be the result of minerals such as iron and calcium in the water, sediment, organic matter, and plankt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rger particles can be easily removed through filtr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Cycl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594240" y="0"/>
            <a:ext cx="554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asurement of the acidity or alkalinity of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often treated so that it remains in the pH range of 7.0 to 7.8, or almost neutra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ardnes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centration of calcium and magnesium ions in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igher the concentration of ions, the harder the wat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dness can be reduced through a process referred to as soften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ethods of Water Manage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pumped from wells usually needs little treat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ing chlorine for dis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fteners to reduce hardn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ethods of Water Manage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face water commonly requires more treatment than well wat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ur steps in treating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eening to remov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dimentation and sedimentation to remove sediment from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nation to disinfect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filtration to make the water p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ethods of Water Manage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935520" cy="5105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06880" y="1600200"/>
            <a:ext cx="393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 business, additional complex filtering may take place before water flows through machines such as ice mak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ource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main sources of water are surface water and ground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611520" y="200016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3611520" y="2000160"/>
            <a:ext cx="360" cy="360"/>
            <a:chOff x="3611520" y="2000160"/>
            <a:chExt cx="360" cy="360"/>
          </a:xfrm>
        </p:grpSpPr>
        <p:sp>
          <p:nvSpPr>
            <p:cNvPr id="253" name="Rectangle 8"/>
            <p:cNvSpPr/>
            <p:nvPr/>
          </p:nvSpPr>
          <p:spPr>
            <a:xfrm>
              <a:off x="3611520" y="2000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611520" y="2000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5" name="Picture 13" descr="groundwater"/>
          <p:cNvPicPr/>
          <p:nvPr/>
        </p:nvPicPr>
        <p:blipFill>
          <a:blip r:embed="rId1"/>
          <a:stretch/>
        </p:blipFill>
        <p:spPr>
          <a:xfrm>
            <a:off x="2590920" y="3581280"/>
            <a:ext cx="4686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urface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found on the surface of the earth in lakes, streams, rivers, and ocean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either freshwater or saltwat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in source is precipit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for human consumption and agricultural u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water should be treated before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Ground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from within the ear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 be located a few feet or thousands of feet within the ear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ides much of the freshwater we us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usually be used with little treat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dition of water for a particular us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fected by how people use and abuse water resour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254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5440" y="1514520"/>
            <a:ext cx="805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9" descr="faucetphoto"/>
          <p:cNvPicPr/>
          <p:nvPr/>
        </p:nvPicPr>
        <p:blipFill>
          <a:blip r:embed="rId1"/>
          <a:stretch/>
        </p:blipFill>
        <p:spPr>
          <a:xfrm>
            <a:off x="6095880" y="4876920"/>
            <a:ext cx="19814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 Factor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93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dor and Tas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d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06880" y="1523880"/>
            <a:ext cx="393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bid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y Met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 Resid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iform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Cycle Spher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ion and tran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water and precip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s and animals that consum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th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where the water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atmosphe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2184480"/>
            <a:ext cx="1752840" cy="1168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ios_comm_ear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5010120"/>
            <a:ext cx="1996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urbidit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lid material suspended in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aterials may be soil particles or microscopic organis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bid water is not clear; light cannot pass through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emove turbidity, the water has to be filtered and the particles allowed to sett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608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Picture of three glass beakers with water with turbidities of 10, 200, and 1500.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eavy Metal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ing mercury and lead, may be hazardous to the water supp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was once commonly used to seal j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ipes should be repla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hemical Residu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residues from various chemicals including pesticides can be dangerous to human heal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liform Bacteria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0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indication of fecal contamination in the water supp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from human or animal waste getting into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contaminated with coliform bacteria is not fit for consump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iform bacteria can be destroyed by boiling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SummaryQualityPetri1"/>
          <p:cNvPicPr/>
          <p:nvPr/>
        </p:nvPicPr>
        <p:blipFill>
          <a:blip r:embed="rId1"/>
          <a:stretch/>
        </p:blipFill>
        <p:spPr>
          <a:xfrm>
            <a:off x="6705720" y="228600"/>
            <a:ext cx="16383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esting Household          Water Suppli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0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 water tests that should be done on a yearly basis include coliform, nitrate, and p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 water tests that should be done every three years include tests for sulfate, chloride, iron, manganese, and le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advan-2"/>
          <p:cNvPicPr/>
          <p:nvPr/>
        </p:nvPicPr>
        <p:blipFill>
          <a:blip r:embed="rId1"/>
          <a:stretch/>
        </p:blipFill>
        <p:spPr>
          <a:xfrm>
            <a:off x="609480" y="15228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Tes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80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done for a couple dollars or a couple hundred dolla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 of different water tests that can be conducted include hardness, dissolved gases, nitrates and nitrites, and acid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Water%2520Treatment%2520Plant%2520Testing%2520071802"/>
          <p:cNvPicPr/>
          <p:nvPr/>
        </p:nvPicPr>
        <p:blipFill>
          <a:blip r:embed="rId1"/>
          <a:stretch/>
        </p:blipFill>
        <p:spPr>
          <a:xfrm>
            <a:off x="5867280" y="152280"/>
            <a:ext cx="2819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 Monito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5534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 Monito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ysical, chemical, and biological make-up of the water source should be monitored regularly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at changes are taking pl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determine how to stop these changes or make other correctiv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ysical Monito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sual and other physical observations of the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dor of the water sour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ce of sediment or other materials (dead animal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urse and any changes in the course of the water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hanges in Colo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 result from the presence of algae or bacteri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lake-ptco"/>
          <p:cNvPicPr/>
          <p:nvPr/>
        </p:nvPicPr>
        <p:blipFill>
          <a:blip r:embed="rId1"/>
          <a:stretch/>
        </p:blipFill>
        <p:spPr>
          <a:xfrm>
            <a:off x="3581280" y="3352680"/>
            <a:ext cx="34290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ysical and Chemical Makeup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est form is tasteless, odorless, and colorl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hemical compound made up of two atoms of hydrogen and one atom of oxygen =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resence of Sedi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 also change the color and turbidity of the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46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6" descr="sediment"/>
          <p:cNvPicPr/>
          <p:nvPr/>
        </p:nvPicPr>
        <p:blipFill>
          <a:blip r:embed="rId1"/>
          <a:stretch/>
        </p:blipFill>
        <p:spPr>
          <a:xfrm>
            <a:off x="4495680" y="32767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oam Form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uld indicate the presence of decomposi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3" descr="foam"/>
          <p:cNvPicPr/>
          <p:nvPr/>
        </p:nvPicPr>
        <p:blipFill>
          <a:blip r:embed="rId1"/>
          <a:stretch/>
        </p:blipFill>
        <p:spPr>
          <a:xfrm>
            <a:off x="4038480" y="3581280"/>
            <a:ext cx="23623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est for Odor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simple as smelling the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dor of rotten eggs would indicate high levels of sulfu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wage and chlorine are other obvious od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hange of Cours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hange of the water course source is usually due to eros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y to prevent changes in course is biological engineer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logical engineering is using plants to stabilize creek or stream bank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ardnes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rted in parts per million (ppm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 than 100 ppm is most desirab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with 250 ppm or more are considered hard and require trea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issolved Gas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bon dioxide and hydrogen sulfide present in a water sample can result in a fowl odor or tast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Nitrates and nitrit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t in the water when organic matter begins to break down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ate levels above 10 milligrams per liter indicate contamin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ite levels above 0.0005 milligrams per liter indicate contamin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ysical State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id = 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freezes at 32°F or 0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= water vapor or s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boils at 212°F or 100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between = liquid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CH03_08"/>
          <p:cNvPicPr/>
          <p:nvPr/>
        </p:nvPicPr>
        <p:blipFill>
          <a:blip r:embed="rId1"/>
          <a:stretch/>
        </p:blipFill>
        <p:spPr>
          <a:xfrm>
            <a:off x="4773600" y="1523880"/>
            <a:ext cx="42940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aline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875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that contains sa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ium chloride, potassium, and magnesium can raise the level of salts in the w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salt in the water will determine its useful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is too high in salt cannot be used for drinking or irr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shwater, saltwater, brack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resh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than 3.0 parts per thousand (ppt) of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lled wells, streams, and lak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 percent of the water on the earth is considered freshwater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f this 3 percent only 1 percent is available for u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56:43Z</dcterms:created>
  <dc:creator>Administrator</dc:creator>
  <dc:description/>
  <dc:language>en-US</dc:language>
  <cp:lastModifiedBy>Alicia Burge</cp:lastModifiedBy>
  <dcterms:modified xsi:type="dcterms:W3CDTF">2011-01-04T03:33:09Z</dcterms:modified>
  <cp:revision>21</cp:revision>
  <dc:subject/>
  <dc:title>PowerPoint Presentation</dc:title>
</cp:coreProperties>
</file>